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gif" ContentType="image/gif"/>
  <Override PartName="/ppt/media/image5.png" ContentType="image/png"/>
  <Override PartName="/ppt/media/image2.jpeg" ContentType="image/jpeg"/>
  <Override PartName="/ppt/media/image1.jpeg" ContentType="image/jpeg"/>
  <Override PartName="/ppt/media/image7.png" ContentType="image/png"/>
  <Override PartName="/ppt/media/image4.gif" ContentType="image/gif"/>
  <Override PartName="/ppt/media/image8.png" ContentType="image/png"/>
  <Override PartName="/ppt/media/image10.gif" ContentType="image/gif"/>
  <Override PartName="/ppt/media/image13.png" ContentType="image/png"/>
  <Override PartName="/ppt/media/image9.wmf" ContentType="image/x-wmf"/>
  <Override PartName="/ppt/media/image3.gif" ContentType="image/gif"/>
  <Override PartName="/ppt/media/image14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B5DC-7C4D-4DDB-9B5B-AF26A7AA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3B4-6F41-47EB-B4C8-0946F1E6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5024-7933-471C-9B32-D562D6A6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AF8D-46A0-4461-BA78-184693BC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FA61-D97D-4D7D-8698-534B2416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EEC-DA6E-462E-A3D6-8677DD80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42F8-E278-4161-9922-711D3400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0F0-FF78-45C0-8BFB-FECEDC68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21A-13C3-452C-B748-8A17F2BA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2F0-D0F9-4444-9309-DDC77062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A5B1-0604-47C6-A067-040BBB16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2F0-E1F8-4408-8776-EBF25220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73EF-82C1-4223-8F54-2618269487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news.1september.r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076400" y="828720"/>
            <a:ext cx="5781600" cy="28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мя числительно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 часть реч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-146160"/>
            <a:ext cx="8436240" cy="160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214200" y="1571760"/>
          <a:ext cx="8715600" cy="4432320"/>
        </p:xfrm>
        <a:graphic>
          <a:graphicData uri="http://schemas.openxmlformats.org/drawingml/2006/table">
            <a:tbl>
              <a:tblPr/>
              <a:tblGrid>
                <a:gridCol w="939960"/>
                <a:gridCol w="1290600"/>
                <a:gridCol w="927000"/>
                <a:gridCol w="1332000"/>
                <a:gridCol w="1327320"/>
                <a:gridCol w="1184040"/>
                <a:gridCol w="1714680"/>
              </a:tblGrid>
              <a:tr h="80460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енные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исл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орядковые числ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ственн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жественн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.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ско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н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ь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у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 пя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 пя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 пя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 пят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3"/>
          <p:cNvSpPr/>
          <p:nvPr/>
        </p:nvSpPr>
        <p:spPr>
          <a:xfrm>
            <a:off x="948600" y="6215400"/>
            <a:ext cx="72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е числительные изменяются только по падеж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1928880" y="3643200"/>
            <a:ext cx="214200" cy="2145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1928880" y="4857840"/>
            <a:ext cx="214200" cy="214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-133200"/>
            <a:ext cx="8727840" cy="14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57120" y="1428840"/>
          <a:ext cx="8429760" cy="3717720"/>
        </p:xfrm>
        <a:graphic>
          <a:graphicData uri="http://schemas.openxmlformats.org/drawingml/2006/table">
            <a:tbl>
              <a:tblPr/>
              <a:tblGrid>
                <a:gridCol w="2357640"/>
                <a:gridCol w="6072120"/>
              </a:tblGrid>
              <a:tr h="225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енные числитель-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Два</a:t>
                      </a: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да  </a:t>
                      </a:r>
                      <a:r>
                        <a:rPr b="0" lang="ru-RU" sz="40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два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-  </a:t>
                      </a:r>
                      <a:r>
                        <a:rPr b="0" lang="ru-RU" sz="40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четыре.</a:t>
                      </a:r>
                      <a:r>
                        <a:rPr b="0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купили </a:t>
                      </a:r>
                      <a:r>
                        <a:rPr b="0" lang="ru-RU" sz="36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три</a:t>
                      </a: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тетради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ей открывается </a:t>
                      </a: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ru-RU" sz="36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сять</a:t>
                      </a: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часов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орядковые числитель-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венел </a:t>
                      </a: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ea typeface="Times New Roman"/>
                        </a:rPr>
                        <a:t>второй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вонок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500040" y="557424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е числительные могут быть разными членами предложения, а порядковые обычно бывают определ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-133200"/>
            <a:ext cx="8899560" cy="86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285840" y="928800"/>
          <a:ext cx="8572320" cy="4643280"/>
        </p:xfrm>
        <a:graphic>
          <a:graphicData uri="http://schemas.openxmlformats.org/drawingml/2006/table">
            <a:tbl>
              <a:tblPr/>
              <a:tblGrid>
                <a:gridCol w="8572320"/>
              </a:tblGrid>
              <a:tr h="11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енные числи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елые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ru-RU" sz="3200" spc="-1" strike="noStrike">
                          <a:solidFill>
                            <a:srgbClr val="005c2a"/>
                          </a:solidFill>
                          <a:latin typeface="Times New Roman"/>
                          <a:ea typeface="Times New Roman"/>
                        </a:rPr>
                        <a:t>Дробные 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Собирательн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ь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3200" spc="-1" strike="noStrike">
                          <a:solidFill>
                            <a:srgbClr val="005c2a"/>
                          </a:solidFill>
                          <a:latin typeface="Times New Roman"/>
                          <a:ea typeface="Times New Roman"/>
                        </a:rPr>
                        <a:t>две трети</a:t>
                      </a:r>
                      <a:r>
                        <a:rPr b="0" lang="ru-RU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семер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вадцать два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3200" spc="-1" strike="noStrike">
                          <a:solidFill>
                            <a:srgbClr val="005c2a"/>
                          </a:solidFill>
                          <a:latin typeface="Times New Roman"/>
                          <a:ea typeface="Times New Roman"/>
                        </a:rPr>
                        <a:t>одна десятая</a:t>
                      </a:r>
                      <a:r>
                        <a:rPr b="0" lang="ru-RU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дв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Rectangle 1"/>
          <p:cNvSpPr/>
          <p:nvPr/>
        </p:nvSpPr>
        <p:spPr>
          <a:xfrm>
            <a:off x="214200" y="5717160"/>
            <a:ext cx="821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е числительные делятся на три группы: целые, дробные и собира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ubPieSlice"/>
          <p:cNvSpPr/>
          <p:nvPr/>
        </p:nvSpPr>
        <p:spPr>
          <a:xfrm rot="6690600">
            <a:off x="3637800" y="4066920"/>
            <a:ext cx="1414440" cy="1414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5" descr="j0343297"/>
          <p:cNvPicPr/>
          <p:nvPr/>
        </p:nvPicPr>
        <p:blipFill>
          <a:blip r:embed="rId2"/>
          <a:stretch/>
        </p:blipFill>
        <p:spPr>
          <a:xfrm>
            <a:off x="7000920" y="4000680"/>
            <a:ext cx="1361880" cy="13777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5" descr="j0223774"/>
          <p:cNvPicPr/>
          <p:nvPr/>
        </p:nvPicPr>
        <p:blipFill>
          <a:blip r:embed="rId3"/>
          <a:stretch/>
        </p:blipFill>
        <p:spPr>
          <a:xfrm rot="21352200">
            <a:off x="609480" y="4263840"/>
            <a:ext cx="1401840" cy="1104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73080"/>
            <a:ext cx="865476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357120" y="1714680"/>
          <a:ext cx="8358120" cy="2803320"/>
        </p:xfrm>
        <a:graphic>
          <a:graphicData uri="http://schemas.openxmlformats.org/drawingml/2006/table">
            <a:tbl>
              <a:tblPr/>
              <a:tblGrid>
                <a:gridCol w="1857600"/>
                <a:gridCol w="2857320"/>
                <a:gridCol w="3643200"/>
              </a:tblGrid>
              <a:tr h="60984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на числительны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ные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ятьсо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стнадц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ёхсотый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 двадцать тр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ести шестнадцать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Rectangle 1"/>
          <p:cNvSpPr/>
          <p:nvPr/>
        </p:nvSpPr>
        <p:spPr>
          <a:xfrm>
            <a:off x="214200" y="4932360"/>
            <a:ext cx="62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ительные бывают трех видов: простые, сложные и состав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0" descr="30"/>
          <p:cNvPicPr/>
          <p:nvPr/>
        </p:nvPicPr>
        <p:blipFill>
          <a:blip r:embed="rId2"/>
          <a:stretch/>
        </p:blipFill>
        <p:spPr>
          <a:xfrm>
            <a:off x="6858000" y="4857840"/>
            <a:ext cx="173340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60480"/>
            <a:ext cx="8582040" cy="174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357120" y="1857240"/>
          <a:ext cx="8429760" cy="3143520"/>
        </p:xfrm>
        <a:graphic>
          <a:graphicData uri="http://schemas.openxmlformats.org/drawingml/2006/table">
            <a:tbl>
              <a:tblPr/>
              <a:tblGrid>
                <a:gridCol w="2809800"/>
                <a:gridCol w="2810160"/>
                <a:gridCol w="2809800"/>
              </a:tblGrid>
              <a:tr h="1070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ягкий знак пишет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ягкий знак не пишет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а конце числитель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 середине числитель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 середине числитель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 16, 17, 18, 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20 и 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ительном 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80   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0 до 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" name="Rectangle 1"/>
          <p:cNvSpPr/>
          <p:nvPr/>
        </p:nvSpPr>
        <p:spPr>
          <a:xfrm>
            <a:off x="214200" y="550188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апомнить эти правила выполните упраж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тавьте мягкий знак в числительные там, где это необходимо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6760" y="1285560"/>
            <a:ext cx="83581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лето прочитал пят…надцать кни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 пят..сот ученик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ечатано восем..сот экземпляров кни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даже есть сем..надцать видов обое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бака – шест..десят литр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о двад…цать зада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ахали девят..надцать гектаров земл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ботано девят..сот рубл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о пят..десят километров дорог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дании восем..надцать этаж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77724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2600" y="1285560"/>
            <a:ext cx="80010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лето прочитал пятнадцать кни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 пят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 ученик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ечатано восем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 экземпляров кни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даже есть семнадцать видов обое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бака – шест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 литр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о двадцать зада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ахали девятнадцать гектаров земл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ботано девят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 рубл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о пят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 километров дорог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дании восемнадцать этаж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Выв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85480" y="99972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начению числительные делятся на два  разряда: количественные и порядков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е числительные в свою очередь делятся на три группы: целые, дробные и  собиратель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собенностям строения числительные бывают трех видов: простые, сложные и состав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ительных от5 до 20 и в числительном 30 на конце пишется мягкий знак. В числительных от 50 до 80 и от 500 до 900 в середине пишется мягкий зна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85480" y="856800"/>
            <a:ext cx="86439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В каком предложении из произведений С.Маршака употреблено порядковое числительн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«Да послышался вдали выстрел из двустволк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«Распустился ландыш в мае, в самый праздник, в первый день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«Бьют часы Кремлёвской башни, свой салют двенадцать раз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«На столе он строит башни, строит город в пять минут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10" descr="30"/>
          <p:cNvPicPr/>
          <p:nvPr/>
        </p:nvPicPr>
        <p:blipFill>
          <a:blip r:embed="rId1"/>
          <a:stretch/>
        </p:blipFill>
        <p:spPr>
          <a:xfrm>
            <a:off x="5654520" y="4572000"/>
            <a:ext cx="2079720" cy="1714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14200" y="285480"/>
            <a:ext cx="8715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Укажите верное утвержд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Имя числительное – это самостоятельная часть речи, которая обозначает предмет и его порядок при сче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мя числительное – это самостоятельная часть речи, которая обозначает количество предметов, число, а также порядок предметов при сче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Имя числительное – это служебная часть речи, которая обозначает количество предметов, число, а также порядок предметов при сче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Имя числительное – это самостоятельная часть речи, которая обозначает признак предм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7" descr="j0233972"/>
          <p:cNvPicPr/>
          <p:nvPr/>
        </p:nvPicPr>
        <p:blipFill>
          <a:blip r:embed="rId1"/>
          <a:stretch/>
        </p:blipFill>
        <p:spPr>
          <a:xfrm rot="565800">
            <a:off x="7165440" y="5498640"/>
            <a:ext cx="1338480" cy="1257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ект для 6 класс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ительное как часть реч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Кудрявцева Виктория Анатольев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курс, филологический факульт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ыктывкар 2010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85840" y="285840"/>
            <a:ext cx="85010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Укажите неверное утвержд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орок восемь – это целое числ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дна треть – дробное числитель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то – собирательное числите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трое – собирательное числитель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Цифрами записаны количественные числительные. Укажите строчку, к которой все числительные являются просты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9, 15, 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8, 1000, 100,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9999, 300, 4, 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3, 29, 18, 4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6" descr="21M2"/>
          <p:cNvPicPr/>
          <p:nvPr/>
        </p:nvPicPr>
        <p:blipFill>
          <a:blip r:embed="rId1"/>
          <a:stretch/>
        </p:blipFill>
        <p:spPr>
          <a:xfrm flipH="1">
            <a:off x="6929280" y="5286240"/>
            <a:ext cx="11988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13840" y="857160"/>
            <a:ext cx="86439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Укажите строчку, в которой допущена ошиб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ять, пятнадцать, пятдесят, пять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емь, семнадцать, семьдесят, семь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шесть, шестнадцать, шестьдесят, шесть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восемь, восемнадцать, восемьдесят, восемь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6" descr="21M2"/>
          <p:cNvPicPr/>
          <p:nvPr/>
        </p:nvPicPr>
        <p:blipFill>
          <a:blip r:embed="rId1"/>
          <a:stretch/>
        </p:blipFill>
        <p:spPr>
          <a:xfrm flipH="1">
            <a:off x="4714920" y="4857840"/>
            <a:ext cx="1285920" cy="1226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085760" y="743040"/>
            <a:ext cx="5772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сский язык: Учеб. для 6 кл./М.Т.Баранов, Т. А. Ладыженская и др. – М.: 2007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шина Н. С., Розенталь Д. Э. Орфография и пунктуация. М., 1970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нциклопедия по русскому язы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равочники по русскому языку, 6 клас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ews.1september.r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ополагающий вопрос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им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лемные 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разряды числительных быва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они так называю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зменяются числительные простые, составные и сложны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писание числите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кие разряды делятся количественные числительны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ставление результатов исследования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нгаз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чи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ла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ая презентац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ительность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нед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урока по 40 мин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тапы проведения проек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и формулировка тем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стоятельная работа учащих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щита проек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темы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а числительны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количественных числитель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, составные и сложные числительны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гкий знак на конце и в середине числитель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42960" y="1643040"/>
          <a:ext cx="8072280" cy="4070520"/>
        </p:xfrm>
        <a:graphic>
          <a:graphicData uri="http://schemas.openxmlformats.org/drawingml/2006/table">
            <a:tbl>
              <a:tblPr/>
              <a:tblGrid>
                <a:gridCol w="8072280"/>
              </a:tblGrid>
              <a:tr h="58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енные                                  </a:t>
                      </a:r>
                      <a:r>
                        <a:rPr b="1" i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орядко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?                                                   Како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венадцать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лет                                </a:t>
                      </a:r>
                      <a:r>
                        <a:rPr b="1" i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ятый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о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ять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ук                                       </a:t>
                      </a:r>
                      <a:r>
                        <a:rPr b="1" i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ервый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о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тонн                                         </a:t>
                      </a:r>
                      <a:r>
                        <a:rPr b="1" i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ятисотый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шр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Рисунок 1" descr="j0356784"/>
          <p:cNvPicPr/>
          <p:nvPr/>
        </p:nvPicPr>
        <p:blipFill>
          <a:blip r:embed="rId1"/>
          <a:stretch/>
        </p:blipFill>
        <p:spPr>
          <a:xfrm>
            <a:off x="5643720" y="44290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j0283494"/>
          <p:cNvPicPr/>
          <p:nvPr/>
        </p:nvPicPr>
        <p:blipFill>
          <a:blip r:embed="rId2"/>
          <a:stretch/>
        </p:blipFill>
        <p:spPr>
          <a:xfrm>
            <a:off x="1643040" y="4357800"/>
            <a:ext cx="1047600" cy="10000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4" descr=""/>
          <p:cNvPicPr/>
          <p:nvPr/>
        </p:nvPicPr>
        <p:blipFill>
          <a:blip r:embed="rId3"/>
          <a:stretch/>
        </p:blipFill>
        <p:spPr>
          <a:xfrm>
            <a:off x="853920" y="231840"/>
            <a:ext cx="7351920" cy="1152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714240" y="5788800"/>
            <a:ext cx="8072640" cy="8254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начению слова этой части речи делятся на два разряда: количественные и порядк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3:12:48Z</dcterms:created>
  <dc:creator>Zver</dc:creator>
  <dc:description/>
  <dc:language>en-US</dc:language>
  <cp:lastModifiedBy>gad</cp:lastModifiedBy>
  <dcterms:modified xsi:type="dcterms:W3CDTF">2010-05-17T13:24:53Z</dcterms:modified>
  <cp:revision>22</cp:revision>
  <dc:subject/>
  <dc:title>Слайд 1</dc:title>
</cp:coreProperties>
</file>